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2EE5-8E74-4516-99F2-D8E40BB09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7662-93DF-4E2D-88DC-015BA7B0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CFF6E-C2E4-48F7-A1A2-84B6C0E2C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DAFC-700F-4CA8-8E14-EFEC7A18A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DEEE-68E8-4DAD-A45C-FC3F9A96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AC1E-61D7-4A9A-8385-46D515AAC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D9C1-B837-4A0D-B4BF-A9D4401C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B521-4F9C-4F9B-94B1-8E645CC6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E64B-655D-413D-BD99-82F973F6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7D2E-BA09-4D3D-AD0C-EA41CA666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F5E4-10F2-4FE7-B860-EB16D68F5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C888-3D6C-4D94-8218-44A7DF0AA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4DF6F-F048-4319-AD12-67E9CC1C9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7032" t="10420" r="7032" b="8333"/>
          <a:stretch/>
        </p:blipFill>
        <p:spPr>
          <a:xfrm>
            <a:off x="380880" y="533520"/>
            <a:ext cx="838224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7811" t="10420" r="7811" b="9376"/>
          <a:stretch/>
        </p:blipFill>
        <p:spPr>
          <a:xfrm>
            <a:off x="0" y="152280"/>
            <a:ext cx="9144000" cy="651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7811" t="10420" r="7032" b="10420"/>
          <a:stretch/>
        </p:blipFill>
        <p:spPr>
          <a:xfrm>
            <a:off x="457200" y="533520"/>
            <a:ext cx="8305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7811" t="10420" r="7032" b="10420"/>
          <a:stretch/>
        </p:blipFill>
        <p:spPr>
          <a:xfrm>
            <a:off x="457200" y="533520"/>
            <a:ext cx="8305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7811" t="10420" r="7032" b="10420"/>
          <a:stretch/>
        </p:blipFill>
        <p:spPr>
          <a:xfrm>
            <a:off x="457200" y="533520"/>
            <a:ext cx="8305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7811" t="10420" r="7032" b="10420"/>
          <a:stretch/>
        </p:blipFill>
        <p:spPr>
          <a:xfrm>
            <a:off x="457200" y="533520"/>
            <a:ext cx="83059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7811" t="11458" r="0" b="0"/>
          <a:stretch/>
        </p:blipFill>
        <p:spPr>
          <a:xfrm>
            <a:off x="152280" y="0"/>
            <a:ext cx="89917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2T14:26:03Z</dcterms:created>
  <dc:creator>Chris Yeager</dc:creator>
  <dc:description/>
  <dc:language>en-US</dc:language>
  <cp:lastModifiedBy>Chris Yeager</cp:lastModifiedBy>
  <dcterms:modified xsi:type="dcterms:W3CDTF">2005-03-22T14:32:15Z</dcterms:modified>
  <cp:revision>2</cp:revision>
  <dc:subject/>
  <dc:title>Slide 1</dc:title>
</cp:coreProperties>
</file>